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983-236C-4EEF-B2AD-AE215588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CF7-3A70-485E-AAEE-CC21210A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314-89A3-427F-AC76-37B23864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1B1-6DBF-4E95-9CF4-A4C7713D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E00-0390-4091-84CA-9FDC2E5D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3C5-B697-43F7-AF1D-DA2CCD83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875-F8C2-4677-ADB9-32C9DD90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295-D830-4ADC-85B4-A2426DA9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4D4-A1DD-49FB-9BD6-CEA6DE2F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48A-E8A4-4C14-B2DB-AC50EE42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952-269D-4D8F-92F3-1C28FB91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46D-2B4C-42EC-BF3E-93E0A767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9988-D9F6-4C4A-AC72-C7C61F5C7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O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y to upload file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brow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981080"/>
            <a:ext cx="6934320" cy="4419720"/>
            <a:chOff x="1143000" y="1981080"/>
            <a:chExt cx="6934320" cy="4419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69343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1143000" y="1981080"/>
              <a:ext cx="693432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800600" y="434340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se for DestinyInH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c: drive and open fol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rowse_find-inventory" descr=""/>
          <p:cNvPicPr/>
          <p:nvPr/>
        </p:nvPicPr>
        <p:blipFill>
          <a:blip r:embed="rId1"/>
          <a:stretch/>
        </p:blipFill>
        <p:spPr>
          <a:xfrm>
            <a:off x="609480" y="2076480"/>
            <a:ext cx="78487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“inventory” file inside DestinyInHand fol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nventory_file_location" descr=""/>
          <p:cNvPicPr/>
          <p:nvPr/>
        </p:nvPicPr>
        <p:blipFill>
          <a:blip r:embed="rId1"/>
          <a:stretch/>
        </p:blipFill>
        <p:spPr>
          <a:xfrm>
            <a:off x="1752480" y="1992240"/>
            <a:ext cx="64756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Uplo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upload-screensho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61000" cy="492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5880" y="441972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o_to_job-manager" descr=""/>
          <p:cNvPicPr/>
          <p:nvPr/>
        </p:nvPicPr>
        <p:blipFill>
          <a:blip r:embed="rId1"/>
          <a:stretch/>
        </p:blipFill>
        <p:spPr>
          <a:xfrm>
            <a:off x="-914400" y="-533520"/>
            <a:ext cx="10820520" cy="815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2209680"/>
            <a:ext cx="754380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job-manager_summary-view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534520" cy="6411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38880" y="2666880"/>
            <a:ext cx="106704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666880"/>
            <a:ext cx="129564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ummary_list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572160" cy="493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whether all the barcodes were read and whether any were ski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200400"/>
            <a:ext cx="236196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“Find on this page” or just scroll to find “Skipped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croll_find_skipped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5438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 the title before and the title after the skipped file.  Paste these copied segments into a Word document and print for your convenience while searching for the skipped i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aste_skipped_into_Word" descr=""/>
          <p:cNvPicPr/>
          <p:nvPr/>
        </p:nvPicPr>
        <p:blipFill>
          <a:blip r:embed="rId1"/>
          <a:stretch/>
        </p:blipFill>
        <p:spPr>
          <a:xfrm>
            <a:off x="1219320" y="4648320"/>
            <a:ext cx="63896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% complete link for detai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upload-screensho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61000" cy="492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1080" y="38098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or logs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6629400" cy="4114800"/>
            <a:chOff x="1295280" y="1981080"/>
            <a:chExt cx="6629400" cy="41148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6629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1295280" y="1981080"/>
              <a:ext cx="6629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additional2" descr="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items “accounted for”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 are listed as lost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list of “lost” i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dditional3" descr=""/>
          <p:cNvPicPr/>
          <p:nvPr/>
        </p:nvPicPr>
        <p:blipFill>
          <a:blip r:embed="rId1"/>
          <a:stretch/>
        </p:blipFill>
        <p:spPr>
          <a:xfrm>
            <a:off x="365040" y="220968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list of books “Unaccounted For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dditional4" descr=""/>
          <p:cNvPicPr/>
          <p:nvPr/>
        </p:nvPicPr>
        <p:blipFill>
          <a:blip r:embed="rId1"/>
          <a:stretch/>
        </p:blipFill>
        <p:spPr>
          <a:xfrm>
            <a:off x="365040" y="182880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ll “unaccounted for” items have been thoroughly searched for and uploaded, finalize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09480" y="2819520"/>
            <a:ext cx="7696440" cy="4719600"/>
            <a:chOff x="609480" y="2819520"/>
            <a:chExt cx="7696440" cy="47196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609480" y="2819520"/>
              <a:ext cx="7696440" cy="471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781680" y="44956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te that you want to mark unaccounted for items as lost.  If you later scan them through circulation, a note will appear that they had previously been marked as lost, and the lost designation will disapp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Back Office,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1676520"/>
            <a:ext cx="7391520" cy="4478040"/>
            <a:chOff x="914400" y="1676520"/>
            <a:chExt cx="7391520" cy="44780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7391520" cy="44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914400" y="1676520"/>
              <a:ext cx="7391520" cy="447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886200" y="251460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1972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new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1676520"/>
            <a:ext cx="7696080" cy="4719600"/>
            <a:chOff x="685800" y="1676520"/>
            <a:chExt cx="7696080" cy="47196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769608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685800" y="1676520"/>
              <a:ext cx="7696080" cy="471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934320" y="31240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inventory, insert call # range, click 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2286000"/>
            <a:ext cx="7619760" cy="5181480"/>
            <a:chOff x="762120" y="2286000"/>
            <a:chExt cx="7619760" cy="51814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62120" y="2286000"/>
              <a:ext cx="761976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762120" y="2286000"/>
              <a:ext cx="7619760" cy="518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4343400"/>
            <a:ext cx="34290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8672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rm st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43000" y="1981080"/>
            <a:ext cx="7010280" cy="4114800"/>
            <a:chOff x="1143000" y="1981080"/>
            <a:chExt cx="7010280" cy="41148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70102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 txBox="1"/>
            <p:nvPr/>
          </p:nvSpPr>
          <p:spPr>
            <a:xfrm>
              <a:off x="1143000" y="1981080"/>
              <a:ext cx="70102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495680" y="3581280"/>
            <a:ext cx="6858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Destiny InHand to scan barcodes in designated ran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d button to turn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InHand icon [if not displayed, put in service call to tech department].  When tech dept. reinstalls InHan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InHand icon, go to top left corner black rectangle (“InHand”), choose Options and select General.  Place check next to Fol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rcodes (12 of 5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black “In Hand” rectangle displayed in upper left corner of screen, then “clear inventory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 yes to delete all barc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 “Inventor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o scan.  If a barcode does not scan, enter it man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A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it on 1-2-3 half of entry p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press the 1-2-3 corner to get a number keypad and enter the barcod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00200" y="3048120"/>
          <a:ext cx="35812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35812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uploaded approx. 1,000 barcodes, mark the place on the shelf that you have stopped and turn off the InH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Hand into its cra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the synchronization button (bottom right side, opposite green power ligh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hould synchronize within a short time (less than a minute).  If it continues indefinitely to say it is synchronizing, put in a service request with the tech depar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47:25Z</dcterms:created>
  <dc:creator>hammojoa</dc:creator>
  <dc:description/>
  <dc:language>en-US</dc:language>
  <cp:lastModifiedBy>hammojoa</cp:lastModifiedBy>
  <dcterms:modified xsi:type="dcterms:W3CDTF">2009-04-07T14:05:21Z</dcterms:modified>
  <cp:revision>67</cp:revision>
  <dc:subject/>
  <dc:title>HOW TO DO INVENTORY</dc:title>
</cp:coreProperties>
</file>