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B96-D159-47E1-B9F7-53433A5E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49F-D59F-4D38-837B-B0930351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351-BD97-4BAE-8B9A-C9B2B74A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233-6058-4B32-95FF-C33B602B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CA5-4A61-401E-B4BF-79227108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DB4-4033-42C3-8925-4DABC29C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1DE-D075-45B5-9255-D4E5CA85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332-0784-4FB7-B7EB-F2B96A5C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E57-AD3A-4E83-AE38-BE1344B8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633-18A4-46AD-85B6-8B7EE783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06C-B058-49D9-930B-8E9138D2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7A4-94DF-4361-A637-9E8DE4E3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6DC6-75B1-4B69-8640-98DA4BAAE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O INVEN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y to upload files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brow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43000" y="1981080"/>
            <a:ext cx="6934320" cy="4419720"/>
            <a:chOff x="1143000" y="1981080"/>
            <a:chExt cx="6934320" cy="44197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69343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1143000" y="1981080"/>
              <a:ext cx="6934320" cy="441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800600" y="434340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se for DestinyInH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c: drive and open fol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rowse_find-inventory" descr=""/>
          <p:cNvPicPr/>
          <p:nvPr/>
        </p:nvPicPr>
        <p:blipFill>
          <a:blip r:embed="rId1"/>
          <a:stretch/>
        </p:blipFill>
        <p:spPr>
          <a:xfrm>
            <a:off x="609480" y="2076480"/>
            <a:ext cx="78487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“inventory” file inside DestinyInHand fold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nventory_file_location" descr=""/>
          <p:cNvPicPr/>
          <p:nvPr/>
        </p:nvPicPr>
        <p:blipFill>
          <a:blip r:embed="rId1"/>
          <a:stretch/>
        </p:blipFill>
        <p:spPr>
          <a:xfrm>
            <a:off x="1752480" y="1992240"/>
            <a:ext cx="64756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Uplo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upload-screensho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61000" cy="492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5880" y="441972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o_to_job-manager" descr=""/>
          <p:cNvPicPr/>
          <p:nvPr/>
        </p:nvPicPr>
        <p:blipFill>
          <a:blip r:embed="rId1"/>
          <a:stretch/>
        </p:blipFill>
        <p:spPr>
          <a:xfrm>
            <a:off x="-914400" y="-533520"/>
            <a:ext cx="10820520" cy="815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2209680"/>
            <a:ext cx="754380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job-manager_summary-view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534520" cy="6411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38880" y="2666880"/>
            <a:ext cx="106704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2666880"/>
            <a:ext cx="1295640" cy="6098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ummary_list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572160" cy="493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whether all the barcodes were read and whether any were ski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200400"/>
            <a:ext cx="236196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“Find on this page” or just scroll to find “Skipped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croll_find_skipped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5438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 the title before and the title after the skipped file.  Paste these copied segments into a Word document and print for your convenience while searching for the skipped i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aste_skipped_into_Word" descr=""/>
          <p:cNvPicPr/>
          <p:nvPr/>
        </p:nvPicPr>
        <p:blipFill>
          <a:blip r:embed="rId1"/>
          <a:stretch/>
        </p:blipFill>
        <p:spPr>
          <a:xfrm>
            <a:off x="1219320" y="4648320"/>
            <a:ext cx="63896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% complete link for detai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upload-screensho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561000" cy="492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1080" y="38098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or logs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1981080"/>
            <a:ext cx="6629400" cy="4114800"/>
            <a:chOff x="1295280" y="1981080"/>
            <a:chExt cx="6629400" cy="41148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6629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1295280" y="1981080"/>
              <a:ext cx="6629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additional2" descr=""/>
          <p:cNvPicPr/>
          <p:nvPr/>
        </p:nvPicPr>
        <p:blipFill>
          <a:blip r:embed="rId1"/>
          <a:stretch/>
        </p:blipFill>
        <p:spPr>
          <a:xfrm>
            <a:off x="182520" y="13644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items “accounted for”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 are listed as lost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list of “lost” i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dditional3" descr=""/>
          <p:cNvPicPr/>
          <p:nvPr/>
        </p:nvPicPr>
        <p:blipFill>
          <a:blip r:embed="rId1"/>
          <a:stretch/>
        </p:blipFill>
        <p:spPr>
          <a:xfrm>
            <a:off x="365040" y="220968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list of books “Unaccounted For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dditional4" descr=""/>
          <p:cNvPicPr/>
          <p:nvPr/>
        </p:nvPicPr>
        <p:blipFill>
          <a:blip r:embed="rId1"/>
          <a:stretch/>
        </p:blipFill>
        <p:spPr>
          <a:xfrm>
            <a:off x="365040" y="1828800"/>
            <a:ext cx="877896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ll “unaccounted for” items have been thoroughly searched for and uploaded, finalize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09480" y="2819520"/>
            <a:ext cx="7696440" cy="4719600"/>
            <a:chOff x="609480" y="2819520"/>
            <a:chExt cx="7696440" cy="47196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609480" y="2819520"/>
              <a:ext cx="769644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609480" y="2819520"/>
              <a:ext cx="7696440" cy="471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781680" y="44956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te that you want to mark unaccounted for items as lost.  If you later scan them through circulation, a note will appear that they had previously been marked as lost, and the lost designation will disapp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Back Office,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1676520"/>
            <a:ext cx="7391520" cy="4478040"/>
            <a:chOff x="914400" y="1676520"/>
            <a:chExt cx="7391520" cy="44780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7391520" cy="44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914400" y="1676520"/>
              <a:ext cx="7391520" cy="447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886200" y="251460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1972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new inven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1676520"/>
            <a:ext cx="7696080" cy="4719600"/>
            <a:chOff x="685800" y="1676520"/>
            <a:chExt cx="7696080" cy="47196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7696080" cy="47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 txBox="1"/>
            <p:nvPr/>
          </p:nvSpPr>
          <p:spPr>
            <a:xfrm>
              <a:off x="685800" y="1676520"/>
              <a:ext cx="7696080" cy="471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934320" y="31240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inventory, insert call # range, click 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2286000"/>
            <a:ext cx="7619760" cy="5181480"/>
            <a:chOff x="762120" y="2286000"/>
            <a:chExt cx="7619760" cy="51814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62120" y="2286000"/>
              <a:ext cx="761976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762120" y="2286000"/>
              <a:ext cx="7619760" cy="518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4343400"/>
            <a:ext cx="34290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867280"/>
            <a:ext cx="1216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rm st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43000" y="1981080"/>
            <a:ext cx="7010280" cy="4114800"/>
            <a:chOff x="1143000" y="1981080"/>
            <a:chExt cx="7010280" cy="41148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70102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 txBox="1"/>
            <p:nvPr/>
          </p:nvSpPr>
          <p:spPr>
            <a:xfrm>
              <a:off x="1143000" y="1981080"/>
              <a:ext cx="70102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495680" y="3581280"/>
            <a:ext cx="6858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Destiny InHand to scan barcodes in designated ran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d button to turn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InHand icon [if not displayed, put in service call to tech department].  When tech dept. reinstalls InHan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InHand icon, go to top left corner black rectangle (“InHand”), choose Options and select General.  Place check next to Fol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rcodes (12 of 5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black “In Hand” rectangle displayed in upper left corner of screen, then “clear inventory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 yes to delete all barc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 “Inventor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to scan.  If a barcode does not scan, enter it manu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A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it on 1-2-3 half of entry p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press the 1-2-3 corner to get a number keypad and enter the barcod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00200" y="3048120"/>
          <a:ext cx="358128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35812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uploaded approx. 1,000 barcodes, mark the place on the shelf that you have stopped and turn off the InH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Hand into its cra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the synchronization button (bottom right side, opposite green power ligh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hould synchronize within a short time (less than a minute).  If it continues indefinitely to say it is synchronizing, put in a service request with the tech depar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47:25Z</dcterms:created>
  <dc:creator>hammojoa</dc:creator>
  <dc:description/>
  <dc:language>en-US</dc:language>
  <cp:lastModifiedBy>hammojoa</cp:lastModifiedBy>
  <dcterms:modified xsi:type="dcterms:W3CDTF">2009-04-07T14:05:21Z</dcterms:modified>
  <cp:revision>67</cp:revision>
  <dc:subject/>
  <dc:title>HOW TO DO INVENTORY</dc:title>
</cp:coreProperties>
</file>