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590-C110-4C92-9726-A101CB9F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26F-E533-472B-A8E4-7A2F258C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083-9487-4946-9D9A-5A8F659E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EC7-7DFC-4739-9022-EB56AC9F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FF6-3E33-45F1-BB72-00C710CB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A87-4BE5-4801-99B6-01D2B2F4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299-99D8-44CB-AFE8-75D7D8E5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0299-836C-4135-8D15-366BA044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DB7-F9D9-4A89-82D1-BE2949B8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564-C6FB-4B25-A285-BDADE989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7A3-B485-4B4D-9EE7-6D9EF6AF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B65-654F-4BB1-853B-73B7ECC5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C158-E511-4F28-99E4-34F39450B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DO INVEN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DESTI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y to upload files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brow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43000" y="1981080"/>
            <a:ext cx="6934320" cy="4419720"/>
            <a:chOff x="1143000" y="1981080"/>
            <a:chExt cx="6934320" cy="441972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1143000" y="1981080"/>
              <a:ext cx="693432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 txBox="1"/>
            <p:nvPr/>
          </p:nvSpPr>
          <p:spPr>
            <a:xfrm>
              <a:off x="1143000" y="1981080"/>
              <a:ext cx="6934320" cy="441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800600" y="434340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wse for DestinyInH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c: drive and open fold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browse_find-inventory" descr=""/>
          <p:cNvPicPr/>
          <p:nvPr/>
        </p:nvPicPr>
        <p:blipFill>
          <a:blip r:embed="rId1"/>
          <a:stretch/>
        </p:blipFill>
        <p:spPr>
          <a:xfrm>
            <a:off x="609480" y="2076480"/>
            <a:ext cx="784872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“inventory” file inside DestinyInHand fold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nventory_file_location" descr=""/>
          <p:cNvPicPr/>
          <p:nvPr/>
        </p:nvPicPr>
        <p:blipFill>
          <a:blip r:embed="rId1"/>
          <a:stretch/>
        </p:blipFill>
        <p:spPr>
          <a:xfrm>
            <a:off x="1752480" y="1992240"/>
            <a:ext cx="647568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Uplo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upload-screenshot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561000" cy="4926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5880" y="441972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go_to_job-manager" descr=""/>
          <p:cNvPicPr/>
          <p:nvPr/>
        </p:nvPicPr>
        <p:blipFill>
          <a:blip r:embed="rId1"/>
          <a:stretch/>
        </p:blipFill>
        <p:spPr>
          <a:xfrm>
            <a:off x="-914400" y="-533520"/>
            <a:ext cx="10820520" cy="8153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90720" y="2209680"/>
            <a:ext cx="7543800" cy="83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job-manager_summary-view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534520" cy="6411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238880" y="2666880"/>
            <a:ext cx="1067040" cy="6098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2666880"/>
            <a:ext cx="1295640" cy="6098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ummary_list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572160" cy="4937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9480" y="4572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whether all the barcodes were read and whether any were ski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200400"/>
            <a:ext cx="236196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“Find on this page” or just scroll to find “Skipped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scroll_find_skipped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5438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 the title before and the title after the skipped file.  Paste these copied segments into a Word document and print for your convenience while searching for the skipped it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aste_skipped_into_Word" descr=""/>
          <p:cNvPicPr/>
          <p:nvPr/>
        </p:nvPicPr>
        <p:blipFill>
          <a:blip r:embed="rId1"/>
          <a:stretch/>
        </p:blipFill>
        <p:spPr>
          <a:xfrm>
            <a:off x="1219320" y="4648320"/>
            <a:ext cx="638964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% complete link for detai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upload-screenshot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561000" cy="4926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81080" y="380988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ator logs 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95280" y="1981080"/>
            <a:ext cx="6629400" cy="4114800"/>
            <a:chOff x="1295280" y="1981080"/>
            <a:chExt cx="6629400" cy="41148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1295280" y="1981080"/>
              <a:ext cx="66294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1295280" y="1981080"/>
              <a:ext cx="66294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additional2" descr=""/>
          <p:cNvPicPr/>
          <p:nvPr/>
        </p:nvPicPr>
        <p:blipFill>
          <a:blip r:embed="rId1"/>
          <a:stretch/>
        </p:blipFill>
        <p:spPr>
          <a:xfrm>
            <a:off x="182520" y="136440"/>
            <a:ext cx="877896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items “accounted for”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 are listed as lost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list of “lost” ite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dditional3" descr=""/>
          <p:cNvPicPr/>
          <p:nvPr/>
        </p:nvPicPr>
        <p:blipFill>
          <a:blip r:embed="rId1"/>
          <a:stretch/>
        </p:blipFill>
        <p:spPr>
          <a:xfrm>
            <a:off x="365040" y="2209680"/>
            <a:ext cx="877896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list of books “Unaccounted For”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dditional4" descr=""/>
          <p:cNvPicPr/>
          <p:nvPr/>
        </p:nvPicPr>
        <p:blipFill>
          <a:blip r:embed="rId1"/>
          <a:stretch/>
        </p:blipFill>
        <p:spPr>
          <a:xfrm>
            <a:off x="365040" y="1828800"/>
            <a:ext cx="877896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ll “unaccounted for” items have been thoroughly searched for and uploaded, finalize inven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09480" y="2819520"/>
            <a:ext cx="7696440" cy="4719600"/>
            <a:chOff x="609480" y="2819520"/>
            <a:chExt cx="7696440" cy="471960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609480" y="2819520"/>
              <a:ext cx="7696440" cy="47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 txBox="1"/>
            <p:nvPr/>
          </p:nvSpPr>
          <p:spPr>
            <a:xfrm>
              <a:off x="609480" y="2819520"/>
              <a:ext cx="7696440" cy="471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781680" y="449568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te that you want to mark unaccounted for items as lost.  If you later scan them through circulation, a note will appear that they had previously been marked as lost, and the lost designation will disapp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Back Office, Inven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14400" y="1676520"/>
            <a:ext cx="7391520" cy="4478040"/>
            <a:chOff x="914400" y="1676520"/>
            <a:chExt cx="7391520" cy="447804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914400" y="1676520"/>
              <a:ext cx="7391520" cy="44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 txBox="1"/>
            <p:nvPr/>
          </p:nvSpPr>
          <p:spPr>
            <a:xfrm>
              <a:off x="914400" y="1676520"/>
              <a:ext cx="7391520" cy="447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886200" y="251460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41972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 new inven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85800" y="1676520"/>
            <a:ext cx="7696080" cy="4719600"/>
            <a:chOff x="685800" y="1676520"/>
            <a:chExt cx="7696080" cy="471960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685800" y="1676520"/>
              <a:ext cx="7696080" cy="47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 txBox="1"/>
            <p:nvPr/>
          </p:nvSpPr>
          <p:spPr>
            <a:xfrm>
              <a:off x="685800" y="1676520"/>
              <a:ext cx="7696080" cy="471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934320" y="312408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inventory, insert call # range, click O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62120" y="2286000"/>
            <a:ext cx="7619760" cy="5181480"/>
            <a:chOff x="762120" y="2286000"/>
            <a:chExt cx="7619760" cy="518148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762120" y="2286000"/>
              <a:ext cx="761976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 txBox="1"/>
            <p:nvPr/>
          </p:nvSpPr>
          <p:spPr>
            <a:xfrm>
              <a:off x="762120" y="2286000"/>
              <a:ext cx="7619760" cy="5181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666880" y="4343400"/>
            <a:ext cx="342900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586728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rm sta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143000" y="1981080"/>
            <a:ext cx="7010280" cy="4114800"/>
            <a:chOff x="1143000" y="1981080"/>
            <a:chExt cx="7010280" cy="411480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143000" y="1981080"/>
              <a:ext cx="701028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 txBox="1"/>
            <p:nvPr/>
          </p:nvSpPr>
          <p:spPr>
            <a:xfrm>
              <a:off x="1143000" y="1981080"/>
              <a:ext cx="701028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495680" y="3581280"/>
            <a:ext cx="685800" cy="304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Destiny InHand to scan barcodes in designated rang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red button to turn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InHand icon [if not displayed, put in service call to tech department].  When tech dept. reinstalls InHand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InHand icon, go to top left corner black rectangle (“InHand”), choose Options and select General.  Place check next to Fol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rcodes (12 of 5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black “In Hand” rectangle displayed in upper left corner of screen, then “clear inventory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 yes to delete all barc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 “Inventory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to scan.  If a barcode does not scan, enter it manu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Ad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it on 1-2-3 half of entry pa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ly, press the 1-2-3 corner to get a number keypad and enter the barcod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600200" y="3048120"/>
          <a:ext cx="358128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48120"/>
                    <a:ext cx="358128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have uploaded approx. 1,000 barcodes, mark the place on the shelf that you have stopped and turn off the InH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InHand into its cra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sh the synchronization button (bottom right side, opposite green power ligh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should synchronize within a short time (less than a minute).  If it continues indefinitely to say it is synchronizing, put in a service request with the tech depart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3:47:25Z</dcterms:created>
  <dc:creator>hammojoa</dc:creator>
  <dc:description/>
  <dc:language>en-US</dc:language>
  <cp:lastModifiedBy>hammojoa</cp:lastModifiedBy>
  <dcterms:modified xsi:type="dcterms:W3CDTF">2009-04-07T14:05:21Z</dcterms:modified>
  <cp:revision>67</cp:revision>
  <dc:subject/>
  <dc:title>HOW TO DO INVENTORY</dc:title>
</cp:coreProperties>
</file>